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86BE-B3B7-499D-AE2D-DE68C2A4C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2915-2C9E-41FE-9C17-B9B6F146E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025E-5482-4390-834E-BADFF9574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1C73-8312-439E-9FF7-E0EB22A83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DE80-5DD3-463A-A180-C468070FE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510B-7A68-4386-A060-314D8F114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0231-528B-4307-AA0B-EFAEDDC9E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2024-A98A-4304-9718-F34AAB22D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613-E6AF-4B5B-990E-92E4B61B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024-929E-4A9D-A01E-E9652CF9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9A0-8794-4231-8A55-F54FCDD2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4E2-8FB0-43E7-B165-531C0A1A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F86-5435-43D0-A841-0AD52BC2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E06-AE6A-462F-A085-E315435C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572-BC45-4A9E-BEE6-65540AFC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180-C2A5-446E-9BE3-2455517D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3DA-CEA2-4416-A44D-F3E30F40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07D-4B63-46F5-964B-64D44BB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BEE-6516-4856-A774-A2F06D8F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9DB-AEF2-4B05-903D-CEBFFE72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9C6B-45EC-4D4C-B708-133D664A1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17UC2MZOG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Buoy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Use the concept of buoyancy to explain how magmas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6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Dens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9907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is a video of a Galileo Thermome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917UC2MZOGU&amp;feature=rel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bbles of different colored material have different chemical properties that mean their density changes at different temperatures.  As a result, they are more or less buoyant at different temperat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What is buoya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28600" y="5875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force that is equal to the weight of the water the object dis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324480" y="457200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isclab.umeoce.maine.edu/boss/classes/SMS_491_2003/buoyancy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buoyancy.gif"/>
          <p:cNvPicPr/>
          <p:nvPr/>
        </p:nvPicPr>
        <p:blipFill>
          <a:blip r:embed="rId1"/>
          <a:stretch/>
        </p:blipFill>
        <p:spPr>
          <a:xfrm>
            <a:off x="609480" y="1494000"/>
            <a:ext cx="5181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3520" y="5562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3716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ma Rising in the Lithosp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 the diagram with the caus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causal processes for magma movement in the lithosphe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905120"/>
          <a:ext cx="9144000" cy="4267080"/>
        </p:xfrm>
        <a:graphic>
          <a:graphicData uri="http://schemas.openxmlformats.org/drawingml/2006/table">
            <a:tbl>
              <a:tblPr/>
              <a:tblGrid>
                <a:gridCol w="3733920"/>
                <a:gridCol w="5410080"/>
              </a:tblGrid>
              <a:tr h="1119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Factors impact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Aspects of the magma or surrounding lithospher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73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sity of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7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oyancy of the magma/lithosphere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36:25Z</dcterms:created>
  <dc:creator>Julie Libarkin</dc:creator>
  <dc:description/>
  <dc:language>en-US</dc:language>
  <cp:lastModifiedBy>Nicole LaDue</cp:lastModifiedBy>
  <dcterms:modified xsi:type="dcterms:W3CDTF">2010-12-15T17:26:42Z</dcterms:modified>
  <cp:revision>314</cp:revision>
  <dc:subject/>
  <dc:title>PowerPoint Presentation</dc:title>
</cp:coreProperties>
</file>